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21FA7-2CD3-4723-BF16-E388EA61F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22D03-784E-46F0-A48A-873F0E91E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54946-3E9F-4AAE-8FC8-8E2F190B7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49537-A98B-422B-B504-1F3E7BDD3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E009C-EE9B-4DED-ADC1-29C5A70FA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6E57E-AFA4-4678-8B46-914CAB575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3B71C-F0D6-4D12-9232-D5D2519F2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1966E-198A-4D64-8F6C-CF2792AD4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31DAA-0D8A-40C4-A513-1523185D4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B96DA-6FAF-43C0-8D20-0A951A9FA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2E9C5-E6F7-4151-AFAC-19351A176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94B4C-9F47-424F-81A7-1B95344E3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ECEBC-4BCB-45FF-B6AE-F9403F03F316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4E0FB-0FB7-4588-9FEF-684A3AFB300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10"/>
          <p:cNvSpPr/>
          <p:nvPr/>
        </p:nvSpPr>
        <p:spPr>
          <a:xfrm>
            <a:off x="5857920" y="3143160"/>
            <a:ext cx="928800" cy="2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Рисунок 9" descr=""/>
          <p:cNvPicPr/>
          <p:nvPr/>
        </p:nvPicPr>
        <p:blipFill>
          <a:blip r:embed="rId1"/>
          <a:stretch/>
        </p:blipFill>
        <p:spPr>
          <a:xfrm>
            <a:off x="179280" y="4869000"/>
            <a:ext cx="781200" cy="799920"/>
          </a:xfrm>
          <a:prstGeom prst="rect">
            <a:avLst/>
          </a:prstGeom>
          <a:ln w="0">
            <a:noFill/>
          </a:ln>
        </p:spPr>
      </p:pic>
      <p:pic>
        <p:nvPicPr>
          <p:cNvPr id="43" name="Рисунок 10" descr="http://im2-tub-ru.yandex.net/i?id=288906987-01-72"/>
          <p:cNvPicPr/>
          <p:nvPr/>
        </p:nvPicPr>
        <p:blipFill>
          <a:blip r:embed="rId2"/>
          <a:stretch/>
        </p:blipFill>
        <p:spPr>
          <a:xfrm>
            <a:off x="1835280" y="4941720"/>
            <a:ext cx="628560" cy="571680"/>
          </a:xfrm>
          <a:prstGeom prst="rect">
            <a:avLst/>
          </a:prstGeom>
          <a:ln w="0">
            <a:noFill/>
          </a:ln>
        </p:spPr>
      </p:pic>
      <p:pic>
        <p:nvPicPr>
          <p:cNvPr id="44" name="Рисунок 12" descr="Z:\08.СлужбаДиректора\commet-2.gif"/>
          <p:cNvPicPr/>
          <p:nvPr/>
        </p:nvPicPr>
        <p:blipFill>
          <a:blip r:embed="rId3"/>
          <a:stretch/>
        </p:blipFill>
        <p:spPr>
          <a:xfrm>
            <a:off x="2484360" y="4724280"/>
            <a:ext cx="1057320" cy="866880"/>
          </a:xfrm>
          <a:prstGeom prst="rect">
            <a:avLst/>
          </a:prstGeom>
          <a:ln w="0">
            <a:noFill/>
          </a:ln>
        </p:spPr>
      </p:pic>
      <p:pic>
        <p:nvPicPr>
          <p:cNvPr id="45" name="Рисунок 13" descr="Картинка 7 из 34285"/>
          <p:cNvPicPr/>
          <p:nvPr/>
        </p:nvPicPr>
        <p:blipFill>
          <a:blip r:embed="rId4"/>
          <a:stretch/>
        </p:blipFill>
        <p:spPr>
          <a:xfrm>
            <a:off x="1042920" y="4941720"/>
            <a:ext cx="733320" cy="657360"/>
          </a:xfrm>
          <a:prstGeom prst="rect">
            <a:avLst/>
          </a:prstGeom>
          <a:ln w="0">
            <a:noFill/>
          </a:ln>
        </p:spPr>
      </p:pic>
      <p:sp>
        <p:nvSpPr>
          <p:cNvPr id="46" name="Прямоугольник 17"/>
          <p:cNvSpPr/>
          <p:nvPr/>
        </p:nvSpPr>
        <p:spPr>
          <a:xfrm>
            <a:off x="0" y="5786280"/>
            <a:ext cx="8215200" cy="142920"/>
          </a:xfrm>
          <a:prstGeom prst="rect">
            <a:avLst/>
          </a:prstGeom>
          <a:solidFill>
            <a:srgbClr val="1737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18"/>
          <p:cNvSpPr/>
          <p:nvPr/>
        </p:nvSpPr>
        <p:spPr>
          <a:xfrm>
            <a:off x="8286840" y="5786280"/>
            <a:ext cx="857160" cy="1429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ая соединительная линия 26"/>
          <p:cNvSpPr/>
          <p:nvPr/>
        </p:nvSpPr>
        <p:spPr>
          <a:xfrm flipH="1">
            <a:off x="5500800" y="0"/>
            <a:ext cx="1440" cy="57862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47"/>
          <p:cNvSpPr/>
          <p:nvPr/>
        </p:nvSpPr>
        <p:spPr>
          <a:xfrm>
            <a:off x="395280" y="189000"/>
            <a:ext cx="5500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53"/>
          <p:cNvSpPr/>
          <p:nvPr/>
        </p:nvSpPr>
        <p:spPr>
          <a:xfrm>
            <a:off x="0" y="6000840"/>
            <a:ext cx="9144000" cy="857160"/>
          </a:xfrm>
          <a:prstGeom prst="rect">
            <a:avLst/>
          </a:prstGeom>
          <a:solidFill>
            <a:srgbClr val="8eb4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Arial"/>
                <a:ea typeface="Arial"/>
              </a:rPr>
              <a:t>ФГУП «ВНИИР» 201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59"/>
          <p:cNvSpPr/>
          <p:nvPr/>
        </p:nvSpPr>
        <p:spPr>
          <a:xfrm>
            <a:off x="6858000" y="4854600"/>
            <a:ext cx="8571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20480" y="3109680"/>
            <a:ext cx="4786200" cy="14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ru-RU" sz="2000" spc="-1" strike="noStrike">
                <a:solidFill>
                  <a:srgbClr val="0070c0"/>
                </a:solidFill>
                <a:latin typeface="Arial"/>
                <a:ea typeface="Arial"/>
              </a:rPr>
              <a:t>ВЫПОЛНЕНИЕ ПУНКТОВ ПРОТОКОЛА НТКМетр</a:t>
            </a:r>
            <a:br>
              <a:rPr sz="2000"/>
            </a:br>
            <a:r>
              <a:rPr b="1" lang="ru-RU" sz="2000" spc="-1" strike="noStrike">
                <a:solidFill>
                  <a:srgbClr val="0070c0"/>
                </a:solidFill>
                <a:latin typeface="Arial"/>
                <a:ea typeface="Arial"/>
              </a:rPr>
              <a:t>(пп. 18,20)</a:t>
            </a:r>
            <a:br>
              <a:rPr sz="2000"/>
            </a:br>
            <a:br>
              <a:rPr sz="1800"/>
            </a:br>
            <a:br>
              <a:rPr sz="2000"/>
            </a:br>
            <a:r>
              <a:rPr b="1" lang="ru-RU" sz="1800" spc="-1" strike="noStrike">
                <a:solidFill>
                  <a:srgbClr val="254061"/>
                </a:solidFill>
                <a:latin typeface="Arial"/>
                <a:ea typeface="Arial"/>
              </a:rPr>
              <a:t>Иванов Сергей Евгеньевич, </a:t>
            </a:r>
            <a:br>
              <a:rPr sz="1800"/>
            </a:br>
            <a:r>
              <a:rPr b="1" lang="ru-RU" sz="1800" spc="-1" strike="noStrike">
                <a:solidFill>
                  <a:srgbClr val="254061"/>
                </a:solidFill>
                <a:latin typeface="Arial"/>
                <a:ea typeface="Arial"/>
              </a:rPr>
              <a:t>начальник отдела</a:t>
            </a:r>
            <a:r>
              <a:rPr b="1" lang="en-US" sz="1800" spc="-1" strike="noStrike">
                <a:solidFill>
                  <a:srgbClr val="254061"/>
                </a:solidFill>
                <a:latin typeface="Arial"/>
                <a:ea typeface="Arial"/>
              </a:rPr>
              <a:t> </a:t>
            </a:r>
            <a:r>
              <a:rPr b="1" lang="ru-RU" sz="1800" spc="-1" strike="noStrike">
                <a:solidFill>
                  <a:srgbClr val="254061"/>
                </a:solidFill>
                <a:latin typeface="Arial"/>
                <a:ea typeface="Arial"/>
              </a:rPr>
              <a:t>– ученый секретарь ФГУП «ВНИИР»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Рисунок 29" descr="C:\Users\Маргарита\Pictures\IQNet cert mark_copy_1.bmp"/>
          <p:cNvPicPr/>
          <p:nvPr/>
        </p:nvPicPr>
        <p:blipFill>
          <a:blip r:embed="rId5"/>
          <a:stretch/>
        </p:blipFill>
        <p:spPr>
          <a:xfrm>
            <a:off x="3564000" y="4797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54" name="Рисунок 30" descr="C:\Users\Маргарита\Pictures\9001_copy_1.bmp"/>
          <p:cNvPicPr/>
          <p:nvPr/>
        </p:nvPicPr>
        <p:blipFill>
          <a:blip r:embed="rId6"/>
          <a:stretch/>
        </p:blipFill>
        <p:spPr>
          <a:xfrm>
            <a:off x="4572000" y="4869000"/>
            <a:ext cx="720720" cy="715680"/>
          </a:xfrm>
          <a:prstGeom prst="rect">
            <a:avLst/>
          </a:prstGeom>
          <a:ln w="0">
            <a:noFill/>
          </a:ln>
        </p:spPr>
      </p:pic>
      <p:sp>
        <p:nvSpPr>
          <p:cNvPr id="55" name="TextBox 27"/>
          <p:cNvSpPr/>
          <p:nvPr/>
        </p:nvSpPr>
        <p:spPr>
          <a:xfrm>
            <a:off x="108000" y="4797360"/>
            <a:ext cx="55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29" descr=""/>
          <p:cNvPicPr/>
          <p:nvPr/>
        </p:nvPicPr>
        <p:blipFill>
          <a:blip r:embed="rId7"/>
          <a:stretch/>
        </p:blipFill>
        <p:spPr>
          <a:xfrm>
            <a:off x="0" y="0"/>
            <a:ext cx="5472000" cy="9716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9" descr=""/>
          <p:cNvPicPr/>
          <p:nvPr/>
        </p:nvPicPr>
        <p:blipFill>
          <a:blip r:embed="rId8"/>
          <a:stretch/>
        </p:blipFill>
        <p:spPr>
          <a:xfrm>
            <a:off x="5796000" y="115920"/>
            <a:ext cx="3071880" cy="543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179280" y="1341360"/>
            <a:ext cx="8856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п. 18 «О ходе работ по пересмотру ГОСТ 8.587-2006 и РМГ 81-2006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Взамен вышеуказанных документов в разработке находятся следующие стандарты: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ГОСТ «ГСИ. Масса нефти и нефтепродуктов. Методики (методы) измерений» - Редакция проекта стандарта после доработки в ООО «НИИ Транснефть» передана на голосование в Технический комитет по стандартизации ТК 024 «Метрологическое обеспечение добычи и учета углеводородов. Окончательная редакция проекта стандарта размещена 20.02.2017 на сайте ТК 024 для голосования, а также на сайте АИС МГС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ГОСТ «Государственная система обеспечения единства измерений. Средства измерений объемного расхода нефти и нефтепродуктов. Испытания, поверка и калибровка с применением трубопоршневых поверочных установок». (Разработка первой редакции проекта ГОСТ на базе ГОСТ Р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ГОСТ «Системы измерений количества и показателей качества нефти и нефтепродуктов. Общие технические условия». Редакция проекта межгосударственного стандарта ГОСТ «Системы измерений количества и показателей качества нефти и нефтепродуктов. Общие технические условия» прошла процедуру голосования в Техническом комитете по стандартизации ТК 024 «Метрологическое обеспечение добычи и учета углеводородов»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7EF9A-C99C-4763-830E-3FBA00CAD45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8" descr=""/>
          <p:cNvPicPr/>
          <p:nvPr/>
        </p:nvPicPr>
        <p:blipFill>
          <a:blip r:embed="rId1"/>
          <a:stretch/>
        </p:blipFill>
        <p:spPr>
          <a:xfrm>
            <a:off x="0" y="115920"/>
            <a:ext cx="9144000" cy="108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596AD-752E-4E0F-933F-AF462CE230C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8" descr=""/>
          <p:cNvPicPr/>
          <p:nvPr/>
        </p:nvPicPr>
        <p:blipFill>
          <a:blip r:embed="rId1"/>
          <a:stretch/>
        </p:blipFill>
        <p:spPr>
          <a:xfrm>
            <a:off x="0" y="115920"/>
            <a:ext cx="9144000" cy="108252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Calibri"/>
              </a:rPr>
              <a:t>Предложения в Протокол по п. 18 «О ходе работ по пересмотру ГОСТ 8.587-2006 «Государственная система обеспечения единства измерений. Масса нефти и нефтепродуктов. Общие требования к методикам выполнения измерений» и РМГ 81-2006 «Государственная система обеспечения единства измерений. Метрологическое обеспечение учета нефти при ее транспортировке по системе магистральных нефтепроводов. Основные положения»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ринять к сведению информацию Российской Федерации о ходе проведения работ по пересмотру  ГОСТ 8.587-2006 «Государственная система обеспечения единства измерений. Масса нефти и нефтепродуктов. Общие требования к методикам выполнения измерений» и РМГ 81-2006 «Государственная система обеспечения единства измерений. Метрологическое обеспечение учета нефти при ее транспортировке по системе магистральных нефтепроводов. Основные положения»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родолжить разработку комплекса стандартов в области измерений количества и показателей качества нефти при ее транспортировке по системе магистральных нефтепроводов: ГОСТ «ГСИ. Масса нефти и нефтепродуктов. Методики (методы) измерений», ГОСТ «Государственная система обеспечения единства измерений. Средства измерений объемного расхода нефти и нефтепродуктов. Испытания. Поверка и калибровка с применением трубопоршневых поверочных установок», ГОСТ «Системы измерений количества и показателей качества нефти и нефтепродуктов. Общие технические условия». (Приложение к протоколу № 1)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90AF7-4446-4C89-A4D3-D413D7C0BE77}" type="slidenum">
              <a:rPr b="0" lang="ru-RU" sz="14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8" descr=""/>
          <p:cNvPicPr/>
          <p:nvPr/>
        </p:nvPicPr>
        <p:blipFill>
          <a:blip r:embed="rId1"/>
          <a:stretch/>
        </p:blipFill>
        <p:spPr>
          <a:xfrm>
            <a:off x="0" y="115920"/>
            <a:ext cx="9144000" cy="1082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8" name=""/>
          <p:cNvGraphicFramePr/>
          <p:nvPr/>
        </p:nvGraphicFramePr>
        <p:xfrm>
          <a:off x="457200" y="1255680"/>
          <a:ext cx="8229600" cy="5418000"/>
        </p:xfrm>
        <a:graphic>
          <a:graphicData uri="http://schemas.openxmlformats.org/drawingml/2006/table">
            <a:tbl>
              <a:tblPr/>
              <a:tblGrid>
                <a:gridCol w="527040"/>
                <a:gridCol w="2795760"/>
                <a:gridCol w="4906800"/>
              </a:tblGrid>
              <a:tr h="457200"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/п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Наименование докумен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Этап разработ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368360">
                <a:tc>
                  <a:txBody>
                    <a:bodyPr lIns="33120" rIns="3312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ОСТ «ГСИ. Масса нефти и нефтепродуктов. Методики (методы) измерений»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зработка ГОС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едакция проекта стандарта после доработки в ООО «НИИ Транснефть» передана на голосование в Технический комитет по стандартизации ТК 024 «Метрологическое обеспечение добычи и учета углеводородов. Окончательная редакция проекта стандарта размещена на сайте ТК 024 для голосования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055960">
                <a:tc>
                  <a:txBody>
                    <a:bodyPr lIns="33120" rIns="3312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ОСТ «Государственная система обеспечения единства измерений. Средства измерений объемного расхода нефти и нефтепродуктов. Испытания. Поверка и калибровка с применением трубопоршневых поверочных установок»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зработка ГОСТ на базе ГОСТ 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зработка первой редакции проекта стандарта ГОСТ на базе ГОСТ 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536480">
                <a:tc>
                  <a:txBody>
                    <a:bodyPr lIns="33120" rIns="3312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ОСТ «Системы измерений количества и показателей качества нефти и нефтепродуктов. Общие технические условия»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зработка ГОС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едакция проекта межгосударственного стандарта ГОСТ «Системы измерений количества и показателей качества нефти и нефтепродуктов. Общие технические условия» прошла процедуру голосования в Техническом комитете по стандартизации ТК 024 «Метрологическое обеспечение добычи и учета углеводородов»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69" name="Rectangle 2"/>
          <p:cNvSpPr/>
          <p:nvPr/>
        </p:nvSpPr>
        <p:spPr>
          <a:xfrm>
            <a:off x="0" y="7488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и РМГ 8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 целях выполнения п.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0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«О ходе работ по разработке РМГ на основе проекта рекомендаций «Расчет межповерочного интервала для счетчиков холодной и горячей воды» ФГУП «ВНИИР» разработал национальный стандарт ГОСТ Р «ГСИ. Счетчики холодной и горячей воды. Определение интервала между поверками». Стандарт был включен в программу работ по национальной стандартизации (Шифр темы программы национальной стандартизации: 3.17.024-1.012.14)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циональный стандарт Российской Федерации ГОСТ Р 8.931-2016 «Государственная система обеспечения единства измерений. Счетчики холодной и горячей воды. Определение интервала между поверками» вводится в действие с 1 января 2019 г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173D9-7A74-4116-96C7-B44C38FFB74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8" descr=""/>
          <p:cNvPicPr/>
          <p:nvPr/>
        </p:nvPicPr>
        <p:blipFill>
          <a:blip r:embed="rId1"/>
          <a:stretch/>
        </p:blipFill>
        <p:spPr>
          <a:xfrm>
            <a:off x="0" y="115920"/>
            <a:ext cx="9144000" cy="108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Calibri"/>
              </a:rPr>
              <a:t>Предложения в протокол по п.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Calibri"/>
              </a:rPr>
              <a:t>20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Calibri"/>
              </a:rPr>
              <a:t> «О ходе работ по разработке РМГ на основе проекта рекомендаций «Расчет межповерочного интервала для счетчиков холодной и горячей воды»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ринять к сведению информацию Российской Федерации о ходе проведения работ по разработке проекта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ГОСТ Р «ГСИ. Счетчики холодной и горячей воды. Определение интервала между поверками»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редложить национальным органам стран рассмотреть стандарт ГОСТ Р 8.931-2016 «Государственная система обеспечения единства измерений. Счетчики холодной и горячей воды. Определение интервала между поверками» и дать предложения в Росстандарт о необходимости переработки ГОСТ Р в ГОСТ или РМГ и введения его в действие на территории стран участников МГС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36B17-288C-4BC6-8545-7F2E9BD56DC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8" descr=""/>
          <p:cNvPicPr/>
          <p:nvPr/>
        </p:nvPicPr>
        <p:blipFill>
          <a:blip r:embed="rId1"/>
          <a:stretch/>
        </p:blipFill>
        <p:spPr>
          <a:xfrm>
            <a:off x="0" y="115920"/>
            <a:ext cx="9144000" cy="108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Прямоугольник 7"/>
          <p:cNvSpPr/>
          <p:nvPr/>
        </p:nvSpPr>
        <p:spPr>
          <a:xfrm>
            <a:off x="0" y="1143000"/>
            <a:ext cx="8215200" cy="142920"/>
          </a:xfrm>
          <a:prstGeom prst="rect">
            <a:avLst/>
          </a:prstGeom>
          <a:solidFill>
            <a:srgbClr val="1737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Прямоугольник 8"/>
          <p:cNvSpPr/>
          <p:nvPr/>
        </p:nvSpPr>
        <p:spPr>
          <a:xfrm>
            <a:off x="8286840" y="1143000"/>
            <a:ext cx="857160" cy="1429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Прямоугольник 9"/>
          <p:cNvSpPr/>
          <p:nvPr/>
        </p:nvSpPr>
        <p:spPr>
          <a:xfrm>
            <a:off x="0" y="142920"/>
            <a:ext cx="9144000" cy="857160"/>
          </a:xfrm>
          <a:prstGeom prst="rect">
            <a:avLst/>
          </a:prstGeom>
          <a:solidFill>
            <a:srgbClr val="8eb4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250920" y="1412640"/>
            <a:ext cx="846432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31200" indent="-331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1200" indent="-3312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54061"/>
                </a:solidFill>
                <a:latin typeface="Arial"/>
                <a:ea typeface="Arial"/>
              </a:rPr>
              <a:t>БЛАГОДАРЮ ЗА ВНИМАНИЕ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1200" indent="-331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1200" indent="-331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1200" indent="-331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1200" indent="-331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1200" indent="-331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1200" indent="-331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54061"/>
                </a:solidFill>
                <a:latin typeface="Arial"/>
                <a:ea typeface="Arial"/>
              </a:rPr>
              <a:t>Иванов Сергей Евгеньевич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1200" indent="-331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54061"/>
                </a:solidFill>
                <a:latin typeface="Arial"/>
                <a:ea typeface="Arial"/>
              </a:rPr>
              <a:t>начальник отдела –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1200" indent="-331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54061"/>
                </a:solidFill>
                <a:latin typeface="Arial"/>
                <a:ea typeface="Arial"/>
              </a:rPr>
              <a:t>ученый секретарь ФГУП «ВНИИР»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Номер слайда 10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07A91-6D60-4B75-A0C1-CBEF1550567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8" descr=""/>
          <p:cNvPicPr/>
          <p:nvPr/>
        </p:nvPicPr>
        <p:blipFill>
          <a:blip r:embed="rId1"/>
          <a:stretch/>
        </p:blipFill>
        <p:spPr>
          <a:xfrm>
            <a:off x="0" y="115920"/>
            <a:ext cx="9144000" cy="108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1T11:31:05Z</dcterms:created>
  <dc:creator>bibliotekar</dc:creator>
  <dc:description/>
  <dc:language>en-US</dc:language>
  <cp:lastModifiedBy>Сергей</cp:lastModifiedBy>
  <dcterms:modified xsi:type="dcterms:W3CDTF">2017-04-13T10:05:39Z</dcterms:modified>
  <cp:revision>580</cp:revision>
  <dc:subject/>
  <dc:title>Слайд 1</dc:title>
</cp:coreProperties>
</file>